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wmf" ContentType="image/x-wmf"/>
  <Override PartName="/ppt/media/image9.wmf" ContentType="image/x-wmf"/>
  <Override PartName="/ppt/media/image8.wmf" ContentType="image/x-wmf"/>
  <Override PartName="/ppt/media/image13.png" ContentType="image/png"/>
  <Override PartName="/ppt/media/image7.wmf" ContentType="image/x-wmf"/>
  <Override PartName="/ppt/media/image12.png" ContentType="image/png"/>
  <Override PartName="/ppt/media/image11.wmf" ContentType="image/x-wmf"/>
  <Override PartName="/ppt/media/image6.wmf" ContentType="image/x-wmf"/>
  <Override PartName="/ppt/media/image3.wmf" ContentType="image/x-wmf"/>
  <Override PartName="/ppt/media/image2.wmf" ContentType="image/x-wmf"/>
  <Override PartName="/ppt/media/image23.wmf" ContentType="image/x-wmf"/>
  <Override PartName="/ppt/media/image22.wmf" ContentType="image/x-wmf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wmf" ContentType="image/x-wmf"/>
  <Override PartName="/ppt/media/image1.jpeg" ContentType="image/jpeg"/>
  <Override PartName="/ppt/media/image4.wmf" ContentType="image/x-wmf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71AD4-7714-4AE4-AF45-AAAF46BE2E8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ngth and Ar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ear 7 Math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a of squares, rectangles and triang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a of square = side × s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s ×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s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a of rectangle = length × bread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l × 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a of triangle = ½ × base × he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½ × b × 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What is the area of this squar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a = s ×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3.2 × 3.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1024 cm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What is the area of this rectangl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a = l × b 6 cm = 60 m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60 × 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300 mm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a of a Triang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Find the area of this triang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a of triangle = ½ × b × 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½ × 8 × 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24 m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: The length of 7 m was not required to find this triangle’s are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Find the area of this triang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a of triangle = ½ × b × 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½ × 4.2 ×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6.3 cm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as of composite sha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nd the area of this shap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thod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a of shape = area of rectangle Y + area of square 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(6 × 2) + (3 × 3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12 + 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21 cm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thod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can also be done by subtracting area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a of shape = area of rectangle S − area of square 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6 × 5 − 3 ×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30 − 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21 cm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bout this shaded area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a of purple shape = area of big rectangle − area of small rectang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(75 × 45) − (32 × 2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3375 − 76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2607 mm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shapes can you se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vide the shape into a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iangle and a rectang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a of shape = area of rectangle + area of triang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(16 × 14) + (½ × 14 × 1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224 + 9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322 cm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24cm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= ½b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98cm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suring Large Are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hectare is about the size of 2 football fiel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hectare = (100 × 100) m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ha = 10 000 m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square kilometre is a square 1km by 1k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km2 = 1000m x 1000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1 000 000 m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100 hectares (ha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nature reserve has an area of 9 577 000 000 m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What is its area in hectares? b What is its area in square kilometre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Area of reserve = 9 577 000 000 m2 (1ha = 10000m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(9 577 000 000 ÷ 10 000) h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957 700 h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rea of the reserve is 957 700 hectar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 Area of reserve = 9 577 000 000 m2 (1 km2 = 1 000 000m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(9 577 000 000 ÷ 1 000 000) km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9577 km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rea of the reserve is 9577 square kilometr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Measure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mits of accuracy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ccuracy of a measurement is how close that measurement is to the true valu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restricted or limited by the accuracy of the measuring instrum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uler is marked in centimetres, so any length measured with it can only be given to the nearest centimet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mit of Accura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each of these measuring scales, state the size of one unit on the scale and state the limit of accurac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ize of one unit is 1 kg. The limits of accuracy are ±0.5 × 1 kg = ±0.5 k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ize of one unit is 5 mL. The limits of accuracy are ±0.5 × 5 mL = ±2.5 m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a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rea of a Shape is the Amount of Surface that is Enclosed by the shap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 use grid paper to determine size of ar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a = 4cm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a = 3 squares + ½ square + ½ squar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= 4 cm 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verting units of ar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cm = 10 m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cm2 = 10 × 10 mm2 = 100 mm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double the number of zero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m = 100 c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m2 = 100 × 100 cm2 = 10 000 cm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double the number of zero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m = 1000 m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m2 = 1000 × 1000 mm = 1 000 000 mm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double the number of zero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versions of Uni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cm2 = 100mm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m2 = 10 000cm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m2 = 1 000 000mm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vestigation of Area of Triang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a of right-angled triang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will need 1-cm grid pap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On your grid paper, draw a rectangle 6 cm by 4 c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 Cut the rectangle in half along a diagonal. What shape have you mad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 Area of rectangle = ×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cm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 What is the area of each triangl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o you notice regarding the area of the triangle and the area of the rectangl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D6E85-2048-4BD2-AEAA-1628B988B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52B27-DE11-4DE1-8343-CBF682F69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25BC6-2D7E-47A1-BB3D-E6E0D982C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7895E-5C49-4829-8D8A-C881D3BBC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B55F9-3953-4F20-9898-6A06C40BB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26384-6A9E-4A76-A571-21275A436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B7A82-27A1-4C88-A8CB-209D7C420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C5CC0-BC90-4D26-B4CD-1D01F1FCC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3AAED-E834-44CB-9E37-4934C93D3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4EC5A-2828-4445-ADAC-7643A0F3E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42078-96C5-494A-A16E-053486AD1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07CB5-AC14-49DE-A377-84D9C6218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FFA90-5576-4BED-A8FF-2CA10EA5AE64}" type="slidenum">
              <a:rPr b="0" lang="en-A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Length and Are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Year 7 Math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000000"/>
                </a:solidFill>
                <a:latin typeface="Arial"/>
              </a:rPr>
              <a:t>Area of squares, rectangles and triang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Area of square 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side 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× 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s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i="1" lang="en-AU" sz="28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× </a:t>
            </a:r>
            <a:r>
              <a:rPr b="1" i="1" lang="en-AU" sz="2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i="1" lang="en-AU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Area of rectangle 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length 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× 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bread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i="1" lang="en-AU" sz="2800" spc="-1" strike="noStrike">
                <a:solidFill>
                  <a:srgbClr val="000000"/>
                </a:solidFill>
                <a:latin typeface="Arial"/>
              </a:rPr>
              <a:t>l 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× </a:t>
            </a:r>
            <a:r>
              <a:rPr b="1" i="1" lang="en-AU" sz="2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Area of triangle 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= ½ × 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base 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× 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he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= ½ × </a:t>
            </a:r>
            <a:r>
              <a:rPr b="1" i="1" lang="en-AU" sz="28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× </a:t>
            </a:r>
            <a:r>
              <a:rPr b="1" i="1" lang="en-AU" sz="2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"/>
          <p:cNvPicPr/>
          <p:nvPr/>
        </p:nvPicPr>
        <p:blipFill>
          <a:blip r:embed="rId1"/>
          <a:stretch/>
        </p:blipFill>
        <p:spPr>
          <a:xfrm>
            <a:off x="6589800" y="1916280"/>
            <a:ext cx="1727280" cy="12952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5" descr=""/>
          <p:cNvPicPr/>
          <p:nvPr/>
        </p:nvPicPr>
        <p:blipFill>
          <a:blip r:embed="rId2"/>
          <a:stretch/>
        </p:blipFill>
        <p:spPr>
          <a:xfrm>
            <a:off x="6443640" y="3933720"/>
            <a:ext cx="2232000" cy="10796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6" descr=""/>
          <p:cNvPicPr/>
          <p:nvPr/>
        </p:nvPicPr>
        <p:blipFill>
          <a:blip r:embed="rId3"/>
          <a:stretch/>
        </p:blipFill>
        <p:spPr>
          <a:xfrm>
            <a:off x="6227640" y="5472000"/>
            <a:ext cx="2808360" cy="14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What is the area of this squar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Area = </a:t>
            </a:r>
            <a:r>
              <a:rPr b="0" i="1" lang="en-AU" sz="24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× </a:t>
            </a:r>
            <a:r>
              <a:rPr b="0" i="1" lang="en-AU" sz="2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= 3.2 × 3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= 1024 cm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What is the area of this rectangl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Area = </a:t>
            </a:r>
            <a:r>
              <a:rPr b="0" i="1" lang="en-AU" sz="2400" spc="-1" strike="noStrike">
                <a:solidFill>
                  <a:srgbClr val="000000"/>
                </a:solidFill>
                <a:latin typeface="Arial"/>
              </a:rPr>
              <a:t>l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× </a:t>
            </a:r>
            <a:r>
              <a:rPr b="0" i="1" lang="en-AU" sz="24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6 cm = 60 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= 60 ×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= 300 mm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"/>
          <p:cNvPicPr/>
          <p:nvPr/>
        </p:nvPicPr>
        <p:blipFill>
          <a:blip r:embed="rId1"/>
          <a:stretch/>
        </p:blipFill>
        <p:spPr>
          <a:xfrm>
            <a:off x="6372360" y="1989000"/>
            <a:ext cx="2087280" cy="15573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"/>
          <p:cNvPicPr/>
          <p:nvPr/>
        </p:nvPicPr>
        <p:blipFill>
          <a:blip r:embed="rId2"/>
          <a:stretch/>
        </p:blipFill>
        <p:spPr>
          <a:xfrm>
            <a:off x="6141960" y="4508640"/>
            <a:ext cx="2317680" cy="129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Area of a Triang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nd the area of this triang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Area of triangle = ½ × </a:t>
            </a:r>
            <a:r>
              <a:rPr b="0" i="1" lang="en-AU" sz="24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× </a:t>
            </a:r>
            <a:r>
              <a:rPr b="0" i="1" lang="en-AU" sz="24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= ½ × 8 ×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= 24 m</a:t>
            </a:r>
            <a:r>
              <a:rPr b="0" lang="en-AU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Arial"/>
              </a:rPr>
              <a:t>Note: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The length of 7 m was not required to find this triangle’s are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nd the area of this triang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Area of triangle = ½ × </a:t>
            </a:r>
            <a:r>
              <a:rPr b="0" i="1" lang="en-AU" sz="24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× </a:t>
            </a:r>
            <a:r>
              <a:rPr b="0" i="1" lang="en-AU" sz="24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= ½ × 4.2 ×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= 6.3 cm</a:t>
            </a:r>
            <a:r>
              <a:rPr b="0" lang="en-AU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"/>
          <p:cNvPicPr/>
          <p:nvPr/>
        </p:nvPicPr>
        <p:blipFill>
          <a:blip r:embed="rId1"/>
          <a:stretch/>
        </p:blipFill>
        <p:spPr>
          <a:xfrm>
            <a:off x="6573960" y="1546200"/>
            <a:ext cx="2174760" cy="18115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5" descr=""/>
          <p:cNvPicPr/>
          <p:nvPr/>
        </p:nvPicPr>
        <p:blipFill>
          <a:blip r:embed="rId2"/>
          <a:stretch/>
        </p:blipFill>
        <p:spPr>
          <a:xfrm>
            <a:off x="6443640" y="4581360"/>
            <a:ext cx="223200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reas of composite sha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28556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the area of this shap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hod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a of shape = area of rectangle Y + area of square 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(6 × 2) + (3 ×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12 + 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21 c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6572160" y="1071720"/>
            <a:ext cx="2500560" cy="20001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3" descr=""/>
          <p:cNvPicPr/>
          <p:nvPr/>
        </p:nvPicPr>
        <p:blipFill>
          <a:blip r:embed="rId2"/>
          <a:stretch/>
        </p:blipFill>
        <p:spPr>
          <a:xfrm>
            <a:off x="6572160" y="4286160"/>
            <a:ext cx="2428920" cy="18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457200" y="713880"/>
            <a:ext cx="822960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ethod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can also be done by subtracting are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a of shape = area of rectangle S − area of square 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6 × 5 − 3 ×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30 − 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21 c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2" descr=""/>
          <p:cNvPicPr/>
          <p:nvPr/>
        </p:nvPicPr>
        <p:blipFill>
          <a:blip r:embed="rId1"/>
          <a:stretch/>
        </p:blipFill>
        <p:spPr>
          <a:xfrm>
            <a:off x="5214960" y="4000680"/>
            <a:ext cx="3286080" cy="242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What about this shaded are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42920" y="1599840"/>
            <a:ext cx="878688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a of purple shape = area of big rectangle − area of small rectang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(75 × 45) − (32 × 2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3375 − 76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2607 m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2286000" y="1214280"/>
            <a:ext cx="4676760" cy="26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285840" y="500040"/>
            <a:ext cx="840096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What shapes can you s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vide the shape into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iangle and a rectang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a of shape = area of rectangle + area of triang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(16 × 14) + (½ × 14 × 1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224 + 9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322 c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6000840" y="214200"/>
            <a:ext cx="2786040" cy="27100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3" descr=""/>
          <p:cNvPicPr/>
          <p:nvPr/>
        </p:nvPicPr>
        <p:blipFill>
          <a:blip r:embed="rId2"/>
          <a:stretch/>
        </p:blipFill>
        <p:spPr>
          <a:xfrm>
            <a:off x="5715000" y="4143240"/>
            <a:ext cx="3276720" cy="2428920"/>
          </a:xfrm>
          <a:prstGeom prst="rect">
            <a:avLst/>
          </a:prstGeom>
          <a:ln w="0">
            <a:noFill/>
          </a:ln>
        </p:spPr>
      </p:pic>
      <p:sp>
        <p:nvSpPr>
          <p:cNvPr id="102" name="TextBox 5"/>
          <p:cNvSpPr/>
          <p:nvPr/>
        </p:nvSpPr>
        <p:spPr>
          <a:xfrm>
            <a:off x="6500880" y="5572080"/>
            <a:ext cx="107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c00000"/>
                </a:solidFill>
                <a:latin typeface="Arial"/>
              </a:rPr>
              <a:t>224cm</a:t>
            </a:r>
            <a:r>
              <a:rPr b="1" lang="en-AU" sz="1800" spc="-1" strike="noStrike" baseline="30000">
                <a:solidFill>
                  <a:srgbClr val="c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6"/>
          <p:cNvSpPr/>
          <p:nvPr/>
        </p:nvSpPr>
        <p:spPr>
          <a:xfrm>
            <a:off x="7572240" y="4284720"/>
            <a:ext cx="1285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200" spc="-1" strike="noStrike">
                <a:solidFill>
                  <a:srgbClr val="c00000"/>
                </a:solidFill>
                <a:latin typeface="Arial"/>
              </a:rPr>
              <a:t>A = ½b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7"/>
          <p:cNvSpPr/>
          <p:nvPr/>
        </p:nvSpPr>
        <p:spPr>
          <a:xfrm>
            <a:off x="6369480" y="4357800"/>
            <a:ext cx="83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c00000"/>
                </a:solidFill>
                <a:latin typeface="Arial"/>
              </a:rPr>
              <a:t>98cm</a:t>
            </a:r>
            <a:r>
              <a:rPr b="1" lang="en-AU" sz="1800" spc="-1" strike="noStrike" baseline="30000">
                <a:solidFill>
                  <a:srgbClr val="c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Measuring Large Ar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1 hectare is about the size of 2 football fiel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1 hectare 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(100 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× 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100) m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1 ha 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10 000 m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1 square kilometre is a square 1km by 1k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1 km2 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1000m x 1000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1 000 000 m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= 100 hectares (h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"/>
          <p:cNvPicPr/>
          <p:nvPr/>
        </p:nvPicPr>
        <p:blipFill>
          <a:blip r:embed="rId1"/>
          <a:stretch/>
        </p:blipFill>
        <p:spPr>
          <a:xfrm>
            <a:off x="6804000" y="4695840"/>
            <a:ext cx="2282760" cy="19018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5" descr=""/>
          <p:cNvPicPr/>
          <p:nvPr/>
        </p:nvPicPr>
        <p:blipFill>
          <a:blip r:embed="rId2"/>
          <a:stretch/>
        </p:blipFill>
        <p:spPr>
          <a:xfrm>
            <a:off x="6840360" y="1700280"/>
            <a:ext cx="24847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179280" y="404640"/>
            <a:ext cx="8785440" cy="604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A nature reserve has an area of 9 577 000 000 m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What is its area in hectares? </a:t>
            </a: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What is its area in square kilometr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Area of reserve = 9 577 000 000 m</a:t>
            </a:r>
            <a:r>
              <a:rPr b="0" lang="en-AU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 (1ha = 10000m</a:t>
            </a:r>
            <a:r>
              <a:rPr b="0" lang="en-AU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= (9 577 000 000 ÷ 10 000) h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= 957 700 h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The area of the reserve is 957 700 hecta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Area of reserve = 9 577 000 000 m2 (1 km</a:t>
            </a:r>
            <a:r>
              <a:rPr b="0" lang="en-AU" sz="2400" spc="-1" strike="noStrike" baseline="30000">
                <a:solidFill>
                  <a:srgbClr val="000000"/>
                </a:solidFill>
                <a:latin typeface="Arial"/>
              </a:rPr>
              <a:t>2 =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1 000 000m</a:t>
            </a:r>
            <a:r>
              <a:rPr b="0" lang="en-AU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= (9 577 000 000 ÷ 1 000 000) km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= 9577 km</a:t>
            </a:r>
            <a:r>
              <a:rPr b="0" lang="en-AU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The area of the reserve is 9577 square kilomet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0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0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0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0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0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0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Measur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http://becauseican.co.za/wp-content/uploads/2008/04/ruler_0_10.jpg"/>
          <p:cNvPicPr/>
          <p:nvPr/>
        </p:nvPicPr>
        <p:blipFill>
          <a:blip r:embed="rId1"/>
          <a:stretch/>
        </p:blipFill>
        <p:spPr>
          <a:xfrm>
            <a:off x="826920" y="2060640"/>
            <a:ext cx="6985080" cy="1235160"/>
          </a:xfrm>
          <a:prstGeom prst="rect">
            <a:avLst/>
          </a:prstGeom>
          <a:ln w="0">
            <a:noFill/>
          </a:ln>
        </p:spPr>
      </p:pic>
      <p:sp>
        <p:nvSpPr>
          <p:cNvPr id="52" name="AutoShape 5"/>
          <p:cNvSpPr/>
          <p:nvPr/>
        </p:nvSpPr>
        <p:spPr>
          <a:xfrm>
            <a:off x="3768840" y="1373040"/>
            <a:ext cx="155520" cy="687600"/>
          </a:xfrm>
          <a:prstGeom prst="downArrow">
            <a:avLst>
              <a:gd name="adj1" fmla="val 50000"/>
              <a:gd name="adj2" fmla="val 110532"/>
            </a:avLst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6" descr=""/>
          <p:cNvPicPr/>
          <p:nvPr/>
        </p:nvPicPr>
        <p:blipFill>
          <a:blip r:embed="rId2"/>
          <a:stretch/>
        </p:blipFill>
        <p:spPr>
          <a:xfrm>
            <a:off x="1403280" y="4508640"/>
            <a:ext cx="6048360" cy="1130040"/>
          </a:xfrm>
          <a:prstGeom prst="rect">
            <a:avLst/>
          </a:prstGeom>
          <a:ln w="0">
            <a:noFill/>
          </a:ln>
        </p:spPr>
      </p:pic>
      <p:sp>
        <p:nvSpPr>
          <p:cNvPr id="54" name="AutoShape 7"/>
          <p:cNvSpPr/>
          <p:nvPr/>
        </p:nvSpPr>
        <p:spPr>
          <a:xfrm>
            <a:off x="4703760" y="4110120"/>
            <a:ext cx="155520" cy="687240"/>
          </a:xfrm>
          <a:prstGeom prst="downArrow">
            <a:avLst>
              <a:gd name="adj1" fmla="val 50000"/>
              <a:gd name="adj2" fmla="val 110475"/>
            </a:avLst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000000"/>
                </a:solidFill>
                <a:latin typeface="Arial"/>
              </a:rPr>
              <a:t>Limits of accuracy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accuracy of a measurement </a:t>
            </a: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is how close that measurement is to the true valu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his is restricted or limited by the accuracy of the measuring instru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he ruler is marked in centimetres, so any length measured with it can only be given to the nearest centimet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"/>
          <p:cNvPicPr/>
          <p:nvPr/>
        </p:nvPicPr>
        <p:blipFill>
          <a:blip r:embed="rId1"/>
          <a:stretch/>
        </p:blipFill>
        <p:spPr>
          <a:xfrm>
            <a:off x="5508720" y="5229360"/>
            <a:ext cx="3527280" cy="14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Limit of Accurac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267920"/>
            <a:ext cx="84358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01480" indent="-501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For each of these measuring scales, state the size of one unit on the scale and state the limit of accurac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1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1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1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1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1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1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1480" indent="-501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The size of one unit is 1 kg. The limits of accuracy are ±0.5 × 1 kg = ±0.5 k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1480" indent="-501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The size of one unit is 5 mL. The limits of accuracy are ±0.5 × 5 mL = ±2.5 m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"/>
          <p:cNvPicPr/>
          <p:nvPr/>
        </p:nvPicPr>
        <p:blipFill>
          <a:blip r:embed="rId1"/>
          <a:stretch/>
        </p:blipFill>
        <p:spPr>
          <a:xfrm>
            <a:off x="1332000" y="2517840"/>
            <a:ext cx="6408720" cy="22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Area</a:t>
            </a: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he Area of a Shape is the Amount of Surface that is Enclosed by the sha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"/>
          <p:cNvPicPr/>
          <p:nvPr/>
        </p:nvPicPr>
        <p:blipFill>
          <a:blip r:embed="rId1"/>
          <a:stretch/>
        </p:blipFill>
        <p:spPr>
          <a:xfrm>
            <a:off x="611280" y="3030480"/>
            <a:ext cx="7848360" cy="284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Are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Can use grid paper to determine size of ar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Area = 4cm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Area = 3 squares + ½ square + ½ square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           = 4 cm 2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"/>
          <p:cNvPicPr/>
          <p:nvPr/>
        </p:nvPicPr>
        <p:blipFill>
          <a:blip r:embed="rId1"/>
          <a:stretch/>
        </p:blipFill>
        <p:spPr>
          <a:xfrm>
            <a:off x="179280" y="2421000"/>
            <a:ext cx="3816360" cy="2448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" descr=""/>
          <p:cNvPicPr/>
          <p:nvPr/>
        </p:nvPicPr>
        <p:blipFill>
          <a:blip r:embed="rId2"/>
          <a:stretch/>
        </p:blipFill>
        <p:spPr>
          <a:xfrm>
            <a:off x="5675400" y="2492280"/>
            <a:ext cx="242568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000000"/>
                </a:solidFill>
                <a:latin typeface="Arial"/>
              </a:rPr>
              <a:t>Converting units of are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39840" y="1341360"/>
            <a:ext cx="848016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Arial"/>
              </a:rPr>
              <a:t>1 cm = 10 m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Arial"/>
              </a:rPr>
              <a:t>1 cm2 = 10 × 10 mm2 = </a:t>
            </a:r>
            <a:r>
              <a:rPr b="1" lang="en-AU" sz="2600" spc="-1" strike="noStrike">
                <a:solidFill>
                  <a:srgbClr val="cc0000"/>
                </a:solidFill>
                <a:latin typeface="Arial"/>
              </a:rPr>
              <a:t>100 mm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Arial"/>
              </a:rPr>
              <a:t>(double the number of zero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Arial"/>
              </a:rPr>
              <a:t>1 m = 100 c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Arial"/>
              </a:rPr>
              <a:t>1 m2 = 100 × 100 cm2 = </a:t>
            </a:r>
            <a:r>
              <a:rPr b="1" lang="en-AU" sz="2600" spc="-1" strike="noStrike">
                <a:solidFill>
                  <a:srgbClr val="cc0000"/>
                </a:solidFill>
                <a:latin typeface="Arial"/>
              </a:rPr>
              <a:t>10 000 cm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Arial"/>
              </a:rPr>
              <a:t>(double the number of zero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Arial"/>
              </a:rPr>
              <a:t>1 m = 1000 m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Arial"/>
              </a:rPr>
              <a:t>1 m2 = 1000 × 1000 mm = </a:t>
            </a:r>
            <a:r>
              <a:rPr b="1" lang="en-AU" sz="2600" spc="-1" strike="noStrike">
                <a:solidFill>
                  <a:srgbClr val="cc0000"/>
                </a:solidFill>
                <a:latin typeface="Arial"/>
              </a:rPr>
              <a:t>1 000 000 mm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Arial"/>
              </a:rPr>
              <a:t>(double the number of zero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"/>
          <p:cNvPicPr/>
          <p:nvPr/>
        </p:nvPicPr>
        <p:blipFill>
          <a:blip r:embed="rId1"/>
          <a:stretch/>
        </p:blipFill>
        <p:spPr>
          <a:xfrm>
            <a:off x="7113600" y="1844640"/>
            <a:ext cx="213840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" dur="500"/>
                                        <p:tgtEl>
                                          <p:spTgt spid="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Conversions of Un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692360" y="1773000"/>
            <a:ext cx="54720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cc0000"/>
                </a:solidFill>
                <a:latin typeface="Arial"/>
              </a:rPr>
              <a:t>1cm</a:t>
            </a:r>
            <a:r>
              <a:rPr b="1" lang="en-AU" sz="3600" spc="-1" strike="noStrike" baseline="30000">
                <a:solidFill>
                  <a:srgbClr val="cc0000"/>
                </a:solidFill>
                <a:latin typeface="Arial"/>
              </a:rPr>
              <a:t>2</a:t>
            </a:r>
            <a:r>
              <a:rPr b="1" lang="en-AU" sz="3600" spc="-1" strike="noStrike">
                <a:solidFill>
                  <a:srgbClr val="cc0000"/>
                </a:solidFill>
                <a:latin typeface="Arial"/>
              </a:rPr>
              <a:t> = 100mm</a:t>
            </a:r>
            <a:r>
              <a:rPr b="1" lang="en-AU" sz="3600" spc="-1" strike="noStrike" baseline="30000">
                <a:solidFill>
                  <a:srgbClr val="cc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cc0000"/>
                </a:solidFill>
                <a:latin typeface="Arial"/>
              </a:rPr>
              <a:t>1m</a:t>
            </a:r>
            <a:r>
              <a:rPr b="1" lang="en-AU" sz="3600" spc="-1" strike="noStrike" baseline="30000">
                <a:solidFill>
                  <a:srgbClr val="cc0000"/>
                </a:solidFill>
                <a:latin typeface="Arial"/>
              </a:rPr>
              <a:t>2</a:t>
            </a:r>
            <a:r>
              <a:rPr b="1" lang="en-AU" sz="3600" spc="-1" strike="noStrike">
                <a:solidFill>
                  <a:srgbClr val="cc0000"/>
                </a:solidFill>
                <a:latin typeface="Arial"/>
              </a:rPr>
              <a:t> = 10 000cm</a:t>
            </a:r>
            <a:r>
              <a:rPr b="1" lang="en-AU" sz="3600" spc="-1" strike="noStrike" baseline="30000">
                <a:solidFill>
                  <a:srgbClr val="cc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cc0000"/>
                </a:solidFill>
                <a:latin typeface="Arial"/>
              </a:rPr>
              <a:t>1m</a:t>
            </a:r>
            <a:r>
              <a:rPr b="1" lang="en-AU" sz="2800" spc="-1" strike="noStrike" baseline="30000">
                <a:solidFill>
                  <a:srgbClr val="cc0000"/>
                </a:solidFill>
                <a:latin typeface="Arial"/>
              </a:rPr>
              <a:t>2</a:t>
            </a:r>
            <a:r>
              <a:rPr b="1" lang="en-AU" sz="3600" spc="-1" strike="noStrike">
                <a:solidFill>
                  <a:srgbClr val="cc0000"/>
                </a:solidFill>
                <a:latin typeface="Arial"/>
              </a:rPr>
              <a:t> = 1 000 000mm</a:t>
            </a:r>
            <a:r>
              <a:rPr b="1" lang="en-AU" sz="3600" spc="-1" strike="noStrike" baseline="30000">
                <a:solidFill>
                  <a:srgbClr val="cc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Arial"/>
              </a:rPr>
              <a:t>Investigation of Area of Triang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Area of right-angled triang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You will need 1-cm grid pap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On your grid paper, draw a rectangle 6 cm by 4 c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Cut the rectangle in half along a diagonal. What shape have you mad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Area of rectangle = 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= cm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d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What is the area of each triangl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What do you notice regarding the area of the triangle and the area of the rectangl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6T23:01:24Z</dcterms:created>
  <dc:creator>fshanks</dc:creator>
  <dc:description/>
  <dc:language>en-US</dc:language>
  <cp:lastModifiedBy>RomaK</cp:lastModifiedBy>
  <dcterms:modified xsi:type="dcterms:W3CDTF">2015-09-04T07:42:28Z</dcterms:modified>
  <cp:revision>17</cp:revision>
  <dc:subject/>
  <dc:title>Length and Area</dc:title>
</cp:coreProperties>
</file>